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8B64-9F45-4072-86B1-BC5125A5B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D341-A123-47D1-B85E-64A0B2E5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6CFB-5D23-49E7-A3CD-9172F7F2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3092-5715-423A-BBA5-61126882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451A-4BED-468D-BEF9-467199AD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1FA7-C7D3-4D08-9D75-80763A10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DF9F-789F-4C9D-AA2F-2857A9DF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C74D-7D72-426A-887C-B46C22D8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9513-B1B6-4EC1-B6A7-5A6AEB2D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0FD1-5151-4050-8CFD-1874C754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7719-DE56-4280-9769-EC1AD5CF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AA2B-2423-485D-AEFF-61B73FFF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de-D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898989"/>
                </a:solidFill>
                <a:latin typeface="Arial"/>
              </a:rPr>
              <a:t>Page </a:t>
            </a:r>
            <a:r>
              <a:rPr b="0" i="1" lang="de-DE" sz="1200" spc="-1" strike="noStrike">
                <a:solidFill>
                  <a:srgbClr val="898989"/>
                </a:solidFill>
                <a:latin typeface="MS UI Gothic"/>
              </a:rPr>
              <a:t></a:t>
            </a:r>
            <a:r>
              <a:rPr b="0" i="1" lang="de-DE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2F9296A0-E538-48F2-ADD5-F091ECBF6EC3}" type="slidenum">
              <a:rPr b="0" i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1"/>
          <p:cNvSpPr/>
          <p:nvPr/>
        </p:nvSpPr>
        <p:spPr>
          <a:xfrm>
            <a:off x="1063800" y="2144880"/>
            <a:ext cx="72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郑州航院教职工基础信息采集工作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具体操作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2"/>
          <p:cNvSpPr/>
          <p:nvPr/>
        </p:nvSpPr>
        <p:spPr>
          <a:xfrm>
            <a:off x="3132000" y="5006880"/>
            <a:ext cx="34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人事处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一三年十月十二日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2"/>
          <p:cNvSpPr/>
          <p:nvPr/>
        </p:nvSpPr>
        <p:spPr>
          <a:xfrm>
            <a:off x="539640" y="1557360"/>
            <a:ext cx="821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）岗位类别★ 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必填，为选择项，包括教师岗位、其他专业技术岗位、管理岗位、工勤技术岗位，可以多选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）岗位等级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★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必填，为选择项，分为：专业技术岗位一到十三级、管理岗位一到十级、工勤技能岗位一到五级，岗位类别为教师岗位或其他专业技术岗位，岗位等级选择专业技术岗位一到十三级；岗位类别为管理岗位，岗位等级选择管理岗位一到十级；岗位类别为工勤技术岗位，岗位等级选择管理工勤技能岗位一到五级，无岗位等级的选无。此项可多选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6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行政职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选择项，行政职务有正职和副职，高校还有中层正职和中层副职，在列表中选择相对应的职务即可，列表没有的选其他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7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现任专业技术职务（高等学校）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专任教师填写教授、副教授、讲师（高校）、助教（高校）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研究员填写研究员、副研究员、研究实习员、研究员，分自然科学、社会科学两类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其他专业技术人员填写其他系列正高级、其他系列副高级、其他系列中级、其他系列初级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90680" y="68724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——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专任教师信息（高等学校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高校专任2"/>
          <p:cNvPicPr/>
          <p:nvPr/>
        </p:nvPicPr>
        <p:blipFill>
          <a:blip r:embed="rId1"/>
          <a:stretch/>
        </p:blipFill>
        <p:spPr>
          <a:xfrm>
            <a:off x="561960" y="1339920"/>
            <a:ext cx="813600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5"/>
          <p:cNvSpPr/>
          <p:nvPr/>
        </p:nvSpPr>
        <p:spPr>
          <a:xfrm>
            <a:off x="880920" y="871560"/>
            <a:ext cx="6942240" cy="47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）是否有高等学校教师资格证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是                 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0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否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）从教起始年月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必填，为手输项，填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excel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模板时格式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YYYYMM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，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9800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）导师类别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博士生导师         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硕士生导师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□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0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无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684360" y="1773360"/>
            <a:ext cx="671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）任课学段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在列表中选择相对应的选项（可复选）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专科课程           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本科课程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研究生课程       □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9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其他课程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642960" y="3808440"/>
            <a:ext cx="528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）任课状况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选择主要教授课程类别，可复选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3"/>
          <p:cNvSpPr/>
          <p:nvPr/>
        </p:nvSpPr>
        <p:spPr>
          <a:xfrm>
            <a:off x="642960" y="4737240"/>
            <a:ext cx="807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1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基础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2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专业课        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2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科研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3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实践技术指导（实践教学）       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0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未任课教师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642960" y="1643040"/>
            <a:ext cx="757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）现主要从事学科领域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普通高校数据选择范围参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基础代码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中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学位授予、人才培养学科目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”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0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年版）中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位数字作为编号的代码 。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高职院校数据选择范围参见“普通高等学校高职高专指导性专业目录（试行）”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00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年版）中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位数字作为编号的代码。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395280" y="1557360"/>
            <a:ext cx="842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）专家类别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在列表中选择相对应的选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可复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矩形 4" descr=""/>
          <p:cNvPicPr/>
          <p:nvPr/>
        </p:nvPicPr>
        <p:blipFill>
          <a:blip r:embed="rId1"/>
          <a:stretch/>
        </p:blipFill>
        <p:spPr>
          <a:xfrm>
            <a:off x="463680" y="2779560"/>
            <a:ext cx="851508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1302120" y="1628640"/>
            <a:ext cx="281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）重要科研教学获奖情况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在列表中选择相对应的选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可复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矩形 2" descr=""/>
          <p:cNvPicPr/>
          <p:nvPr/>
        </p:nvPicPr>
        <p:blipFill>
          <a:blip r:embed="rId1"/>
          <a:stretch/>
        </p:blipFill>
        <p:spPr>
          <a:xfrm>
            <a:off x="396720" y="2992320"/>
            <a:ext cx="8618760" cy="301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755640" y="1341360"/>
            <a:ext cx="657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）取得海外学位情况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在列表中选择相对应的选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可复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矩形 2" descr=""/>
          <p:cNvPicPr/>
          <p:nvPr/>
        </p:nvPicPr>
        <p:blipFill>
          <a:blip r:embed="rId1"/>
          <a:stretch/>
        </p:blipFill>
        <p:spPr>
          <a:xfrm>
            <a:off x="822240" y="2346480"/>
            <a:ext cx="5870520" cy="102996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621720" y="3500280"/>
            <a:ext cx="6990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）海外研修经历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在列表中选择相对应的选项，含取得海外学位的时间。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  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个月以下                 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  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个月 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年（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个月）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  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年（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年）     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4  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年及以上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□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0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无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1819800" y="1844640"/>
            <a:ext cx="3459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）学缘结构★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可复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□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本院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机构取得本科学历或学士学位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□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本院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机构取得研究生学历或硕士学位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□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本院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机构取得研究生学历或博士学位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4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未在本院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机构取得学历或学位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灯片编号占位符 3"/>
          <p:cNvSpPr/>
          <p:nvPr/>
        </p:nvSpPr>
        <p:spPr>
          <a:xfrm>
            <a:off x="7524720" y="638172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  <a:ea typeface="华文细黑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  <a:ea typeface="华文细黑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  <a:ea typeface="华文细黑"/>
              </a:rPr>
              <a:t> </a:t>
            </a:r>
            <a:fld id="{1D548F47-B981-43DE-AD4D-10C1CE43C028}" type="slidenum">
              <a:rPr b="1" i="1" lang="en-US" sz="1000" spc="-1" strike="noStrike">
                <a:solidFill>
                  <a:srgbClr val="ffffff"/>
                </a:solidFill>
                <a:latin typeface="Arial"/>
                <a:ea typeface="华文细黑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7"/>
          <p:cNvSpPr/>
          <p:nvPr/>
        </p:nvSpPr>
        <p:spPr>
          <a:xfrm>
            <a:off x="1544040" y="17938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230480" y="1687680"/>
            <a:ext cx="736560" cy="684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2146320" y="1676520"/>
            <a:ext cx="5619600" cy="68400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83320" rIns="90000" tIns="46800" bIns="46800" anchor="ctr">
            <a:noAutofit/>
          </a:bodyPr>
          <a:p>
            <a:pPr marL="266760" indent="-2667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重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2149560" y="4389480"/>
            <a:ext cx="5688000" cy="684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   </a:t>
            </a:r>
            <a:r>
              <a:rPr b="1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作时间节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208160" y="4397400"/>
            <a:ext cx="736560" cy="684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二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灯片编号占位符 3"/>
          <p:cNvSpPr/>
          <p:nvPr/>
        </p:nvSpPr>
        <p:spPr>
          <a:xfrm>
            <a:off x="7524720" y="638172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  <a:ea typeface="华文细黑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  <a:ea typeface="华文细黑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  <a:ea typeface="华文细黑"/>
              </a:rPr>
              <a:t> </a:t>
            </a:r>
            <a:fld id="{07E794FE-035F-46CC-B73B-3176B2E83995}" type="slidenum">
              <a:rPr b="1" i="1" lang="en-US" sz="1000" spc="-1" strike="noStrike">
                <a:solidFill>
                  <a:srgbClr val="ffffff"/>
                </a:solidFill>
                <a:latin typeface="Arial"/>
                <a:ea typeface="华文细黑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7"/>
          <p:cNvSpPr/>
          <p:nvPr/>
        </p:nvSpPr>
        <p:spPr>
          <a:xfrm>
            <a:off x="1544040" y="17938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230480" y="1687680"/>
            <a:ext cx="736560" cy="684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2146320" y="1676520"/>
            <a:ext cx="5619600" cy="684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重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149560" y="4389480"/>
            <a:ext cx="5688000" cy="68400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83320" rIns="90000" tIns="46800" bIns="46800" anchor="ctr">
            <a:noAutofit/>
          </a:bodyPr>
          <a:p>
            <a:pPr marL="266760" indent="-2667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时间节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1208160" y="4397400"/>
            <a:ext cx="736560" cy="684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灯片编号占位符 3"/>
          <p:cNvSpPr/>
          <p:nvPr/>
        </p:nvSpPr>
        <p:spPr>
          <a:xfrm>
            <a:off x="7524720" y="638172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  <a:ea typeface="华文细黑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  <a:ea typeface="华文细黑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  <a:ea typeface="华文细黑"/>
              </a:rPr>
              <a:t> </a:t>
            </a:r>
            <a:fld id="{51D70AD0-FA58-4D16-9F46-E8F6F9A18E20}" type="slidenum">
              <a:rPr b="1" i="1" lang="en-US" sz="1000" spc="-1" strike="noStrike">
                <a:solidFill>
                  <a:srgbClr val="ffffff"/>
                </a:solidFill>
                <a:latin typeface="Arial"/>
                <a:ea typeface="华文细黑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3"/>
          <p:cNvSpPr/>
          <p:nvPr/>
        </p:nvSpPr>
        <p:spPr>
          <a:xfrm>
            <a:off x="3249720" y="1617840"/>
            <a:ext cx="317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7"/>
          <p:cNvSpPr/>
          <p:nvPr/>
        </p:nvSpPr>
        <p:spPr>
          <a:xfrm>
            <a:off x="1544040" y="15685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72960" y="1966680"/>
            <a:ext cx="8196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前，各单位报送“数据录入、审验人员工作小组”名单。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前，完成本单位教职工纸质基础信息采集表填写工作。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前，完成本单位数据录入、审验工作。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前，相关材料报送人事处（①本单位全部教职工纸质基础信息采集表；②教职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数据文件电子版）。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3"/>
          <p:cNvSpPr/>
          <p:nvPr/>
        </p:nvSpPr>
        <p:spPr>
          <a:xfrm>
            <a:off x="3249720" y="1617840"/>
            <a:ext cx="317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7"/>
          <p:cNvSpPr/>
          <p:nvPr/>
        </p:nvSpPr>
        <p:spPr>
          <a:xfrm>
            <a:off x="1544040" y="15685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822240" y="1905120"/>
            <a:ext cx="792792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（一）采集人员范围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全校正式在编在岗教职工（采集对象不含离退休教职工）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822240" y="3193200"/>
            <a:ext cx="79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方正小标宋简体"/>
                <a:ea typeface="方正小标宋简体"/>
              </a:rPr>
              <a:t>       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252440" y="909720"/>
            <a:ext cx="736560" cy="684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168640" y="896760"/>
            <a:ext cx="5621400" cy="68436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83320" rIns="90000" tIns="46800" bIns="46800" anchor="ctr">
            <a:noAutofit/>
          </a:bodyPr>
          <a:p>
            <a:pPr marL="266760" indent="-2667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重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849240" y="3623760"/>
            <a:ext cx="792792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（二）主要工作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非专任教师：填写纸质</a:t>
            </a:r>
            <a:r>
              <a:rPr b="1" lang="en-US" sz="18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基础信息采集表</a:t>
            </a:r>
            <a:r>
              <a:rPr b="1" lang="en-US" sz="18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》</a:t>
            </a:r>
            <a:r>
              <a:rPr b="1" lang="zh-CN" sz="1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前十一行内容，</a:t>
            </a:r>
            <a:r>
              <a:rPr b="1" lang="zh-CN" sz="18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严格按照要求，规范填报信息。</a:t>
            </a:r>
            <a:r>
              <a:rPr b="1" lang="zh-CN" sz="1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填写完毕后需本人签字确认。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专任教师：填写纸质</a:t>
            </a:r>
            <a:r>
              <a:rPr b="1" lang="en-US" sz="18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基础信息采集表</a:t>
            </a:r>
            <a:r>
              <a:rPr b="1" lang="en-US" sz="18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》</a:t>
            </a:r>
            <a:r>
              <a:rPr b="1" lang="zh-CN" sz="1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全部内容</a:t>
            </a:r>
            <a:r>
              <a:rPr b="1" lang="zh-CN" sz="18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，严格按照要求，规范填报信息。</a:t>
            </a:r>
            <a:r>
              <a:rPr b="1" lang="zh-CN" sz="1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填写完毕后需本人签字确认。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各单位：录入教职工基础信息</a:t>
            </a:r>
            <a:r>
              <a:rPr b="1" lang="en-US" sz="18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EXCEL</a:t>
            </a:r>
            <a:r>
              <a:rPr b="1" lang="zh-CN" sz="18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采集模板，并通过模板附带的校验功能进行校验，保证所有数据没有错误。数据录入、审验人员要严格分离，因此至少要两人以上完成（</a:t>
            </a:r>
            <a:r>
              <a:rPr b="1" lang="zh-CN" sz="1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报送“数据录入、审验人员工作小组”名单）。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490680" y="344520"/>
            <a:ext cx="82296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（三）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填写说明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基础信息表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学校名称：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高校基本2"/>
          <p:cNvPicPr/>
          <p:nvPr/>
        </p:nvPicPr>
        <p:blipFill>
          <a:blip r:embed="rId1"/>
          <a:stretch/>
        </p:blipFill>
        <p:spPr>
          <a:xfrm>
            <a:off x="611280" y="1625760"/>
            <a:ext cx="828180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236520" y="789120"/>
            <a:ext cx="8772480" cy="38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楷体_GB2312"/>
              </a:rPr>
              <a:t>★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楷体_GB2312"/>
              </a:rPr>
              <a:t>所有信息项标★必填，没有标的非必填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楷体_GB2312"/>
              </a:rPr>
              <a:t>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楷体_GB2312"/>
              </a:rPr>
              <a:t>★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楷体_GB2312"/>
              </a:rPr>
              <a:t>纸质表格“对照指标（代码）填写”类请填写“代码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楷体_GB2312"/>
              </a:rPr>
              <a:t>名称”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）学校名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必填，为手输项，填全称。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）姓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必填，为手输项，在公安户籍管理部门正式登记注册、人事档案中正式记载的中文姓名。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）出生日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必填，为手输项，在公安户籍部门正式登记注册、人事档案中记载的时间日，年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位数字、月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位数字、日期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位数字。如：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0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。年龄应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岁之间。填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exce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模板时格式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YYYYMMD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，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9800101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357120" y="1413000"/>
            <a:ext cx="8501040" cy="42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）民族</a:t>
            </a: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为选择项，如：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01-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汉族，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02-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蒙古族，参见附件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基础代码表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中的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中国各民族名称的罗马字母拼写法和代码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。 </a:t>
            </a: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）国籍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地区★ </a:t>
            </a: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必填，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为选择项，教师所属的国籍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地区，如：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156-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中国，参见附件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基础代码表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中的“世界各国和地区名称代码”。</a:t>
            </a: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）政治面貌</a:t>
            </a: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为选择项，如“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01-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中共党员，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02-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中共预备党员，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03-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共青团员，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13-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群众”等，国籍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楷体_GB2312"/>
              </a:rPr>
              <a:t>地区选择“中国”、“香港”、“澳门”时此项必填。</a:t>
            </a: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1"/>
          <p:cNvSpPr/>
          <p:nvPr/>
        </p:nvSpPr>
        <p:spPr>
          <a:xfrm>
            <a:off x="324000" y="1773360"/>
            <a:ext cx="8501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）身份证类型★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必填，为选择项，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选择居民身份证。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）身份证件号★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必填，为手输项，身份证件类型对应的证件号码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位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位，以公安部校验规则校验，必须真实填写，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身份证中出生日期与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【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出生日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】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项中填写的日期可不相同。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"/>
          <p:cNvSpPr/>
          <p:nvPr/>
        </p:nvSpPr>
        <p:spPr>
          <a:xfrm>
            <a:off x="468360" y="1700280"/>
            <a:ext cx="8207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）最高学历★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必填，为选择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学历：指受教育者在教育机构接受科学、文化知识训练并获得国家  教育行政部门认可的学历证书的经历。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数据选择范围参照附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基础代码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中的“学历代码”。包含研究生教育、大学本科教育、大学专科教育、中等职业教育、普通高级中学教育、高中以下、其他。其中中等职业教育详细分为中师（幼师）、中专、职高、技工学校。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）获得最高学历的院校或机构★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必填，为手输项，填写毕业证书上院校或机构的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全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1"/>
          <p:cNvSpPr/>
          <p:nvPr/>
        </p:nvSpPr>
        <p:spPr>
          <a:xfrm>
            <a:off x="755640" y="1557360"/>
            <a:ext cx="7858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）最高学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★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必填，为选择项，没有填无。数据选择范围参照附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基础代码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中的“中华人民共和国学位代码”。包含名誉博士、博士、硕士、学士，不可选择大类（名誉博士除外）。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）获得最高学位的院校或机构★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必填，为手输项，填写毕业证书上院校或机构的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全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。“最高学位”选择“无”，此项填“无”。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）参加工作年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★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必填，为手输项，第一次参加工作的时间，不是到本校工作的时间。填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exce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模板时格式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YYYYM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，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98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7:54:53Z</dcterms:created>
  <dc:creator/>
  <dc:description/>
  <cp:keywords/>
  <dc:language>en-US</dc:language>
  <cp:lastModifiedBy>陈伟旺</cp:lastModifiedBy>
  <dcterms:modified xsi:type="dcterms:W3CDTF">2013-10-12T09:37:31Z</dcterms:modified>
  <cp:revision>397</cp:revision>
  <dc:subject/>
  <dc:title>上海诺睿网络信息科技有限公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